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D1ED-2019-42B7-B738-7E363E2E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AF68-C72B-41C7-8D94-DF95F31D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D132-04FA-4628-9B97-C42F931E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0C46-B00E-42D9-B808-DAA533CF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BCEB-9C0E-4552-A4BD-2BC0F025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ED4D-F445-45F9-BB62-F90FDABB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42F3-F910-4A8F-8B4A-37E2B208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EF5A-B971-41A4-8C0F-20470835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3080-0B6C-4887-9737-ADDB3985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08ED-ABD6-4564-B8D9-2CE7BC14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D15D-D975-43B6-B718-7A0739B1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62D11-0F98-457F-BDC1-D7476A65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81FF-34C4-4AFF-A470-CF7FEA3E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6801-BFAA-46C1-8406-44839D5C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5E62-5EF3-463B-B16E-CB0AD796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98EF-B6BE-4E72-97D9-27001860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582C-986E-4B1C-90D1-E1DD1D62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DC05-57A7-4869-BA2E-1C038EBA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B840-739D-4172-8F3D-B7B0DB18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282A-B323-494B-A48A-2491D629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A2C5-7573-4A97-9B55-67A350E2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E9297-7241-49E7-BE65-4C5A150A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31C4-6215-4035-8BB4-2A186D61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7354-6D2D-4D91-BA62-A8898666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1399-A370-4B2F-83DD-456B86B10C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9A0D-F424-44FA-AEA4-C28154DEA0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nticipation of USDA Crop Production Report Preceding the Sept. 10, 2008 Report Dat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5626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SDA Crop Production Report Released at 7:30 a.m. EST Sept. 10, 2010 (shaded cells reflect report totals versus estimates and prior USDA values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209680" y="2695680"/>
            <a:ext cx="45529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racking the Chicago Mercantile Exchange December Corn Futures Sept. 1-14, 2010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371600" y="2563920"/>
            <a:ext cx="64008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Affects Pr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280" y="175248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we know in agricultural marke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Markets tend to be strong form efficient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80000"/>
              </a:lnSpc>
              <a:spcBef>
                <a:spcPts val="32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Not as much true for livestock markets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utures are as efficient as forecast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del costs vs. statistical signific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 all commodities have underlying futures contracts, so may have valu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intended consequenc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ind that limiting information  increases price volatility and limits productive efficiency (Anderson et al; Koontz et al.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Excess access to information/data may lead to collusion (Albaek, Mollgaard, &amp; Overgaard; Azzam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search and extension marketing economists do not tend to agree (Parcell et al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Research persons generally believe markets efficient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Extension persons generally believe in market inefficiencie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Affects 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What we learn from informatio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od recalls, spatial markets, or soybean rust, market opportuniti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Contributions to professio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redrick Waugh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Zvi Grillich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weeten and Breimyer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What about the information we develop?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Zilberman and Heima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Work has significant impact on policy (evaluation) and technology (economic benefit)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&amp; 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gricultural economists changed their reliance on public data/dat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&amp; 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ummary Statistics from Survey of Journal Articles Relative to the use of Data, Public Data, and USDA Dat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36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67840"/>
            <a:ext cx="89154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c Data and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18828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nfidential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requirements can bias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in Marke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ower the power of hypothesis testing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nsistency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data as product form changes may bias informa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levanc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data allows for timeliness of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lobaliz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agriculture market institutions increases the impact that global supply-demand factors have on the performance of domestic markets and the operations of market institution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and a New Socie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ublic Data, Public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S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ivate Data, Public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tail scanner price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ing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ublic Data, Public/Private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ous examp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ublic Data, Private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ld Food Demand in 3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ivate Data, Private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riSt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ayenga (200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67840"/>
            <a:ext cx="89154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ding Com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18828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tructural change is a fact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ublic information must be able to change as the needs of society change in response to structural chan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vate Data, Private Information has valu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here there is sufficient value private firms will fill this gap to keep the value chain efficie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l economists should step up to the call for the need to conduct cost-benefit analysis of public informatio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14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formation and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Market Institutio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e Parcell, University of Missou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ynn Tonsor, Kansas State Univer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c Data and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18828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Ninety-five percent] of the information our firm provides to clientele originates from public (USDA) data sources and the other 5 [percent] of information is from proprietary data. While the 5 [percent] proprietary data differentiates our firm from the competition, it is the business’ presentation of the public data that makes our firm.”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Paraphrased from Anonymous Consultant,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3"/>
          <p:cNvGrpSpPr/>
          <p:nvPr/>
        </p:nvGrpSpPr>
        <p:grpSpPr>
          <a:xfrm>
            <a:off x="101520" y="1439640"/>
            <a:ext cx="8966160" cy="3464280"/>
            <a:chOff x="101520" y="1439640"/>
            <a:chExt cx="8966160" cy="3464280"/>
          </a:xfrm>
        </p:grpSpPr>
        <p:sp>
          <p:nvSpPr>
            <p:cNvPr id="109" name="TextBox 1"/>
            <p:cNvSpPr/>
            <p:nvPr/>
          </p:nvSpPr>
          <p:spPr>
            <a:xfrm>
              <a:off x="290160" y="2909880"/>
              <a:ext cx="96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Input Supplier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10" name="Rectangle 2"/>
            <p:cNvGrpSpPr/>
            <p:nvPr/>
          </p:nvGrpSpPr>
          <p:grpSpPr>
            <a:xfrm>
              <a:off x="101520" y="1841040"/>
              <a:ext cx="1365120" cy="2694600"/>
              <a:chOff x="101520" y="1841040"/>
              <a:chExt cx="1365120" cy="2694600"/>
            </a:xfrm>
          </p:grpSpPr>
          <p:pic>
            <p:nvPicPr>
              <p:cNvPr id="111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520" y="1841040"/>
                <a:ext cx="1365120" cy="269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4640" y="1970640"/>
                <a:ext cx="111780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Rectangle 3"/>
            <p:cNvGrpSpPr/>
            <p:nvPr/>
          </p:nvGrpSpPr>
          <p:grpSpPr>
            <a:xfrm>
              <a:off x="1365120" y="2066400"/>
              <a:ext cx="1370880" cy="2237400"/>
              <a:chOff x="1365120" y="2066400"/>
              <a:chExt cx="1370880" cy="2237400"/>
            </a:xfrm>
          </p:grpSpPr>
          <p:pic>
            <p:nvPicPr>
              <p:cNvPr id="114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65120" y="2066400"/>
                <a:ext cx="1370880" cy="22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1491120" y="2192400"/>
                <a:ext cx="1117800" cy="19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Rectangle 4"/>
            <p:cNvGrpSpPr/>
            <p:nvPr/>
          </p:nvGrpSpPr>
          <p:grpSpPr>
            <a:xfrm>
              <a:off x="2635200" y="2298240"/>
              <a:ext cx="1365120" cy="1774080"/>
              <a:chOff x="2635200" y="2298240"/>
              <a:chExt cx="1365120" cy="1774080"/>
            </a:xfrm>
          </p:grpSpPr>
          <p:pic>
            <p:nvPicPr>
              <p:cNvPr id="117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35200" y="2298240"/>
                <a:ext cx="1365120" cy="177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2758320" y="2423520"/>
                <a:ext cx="1117800" cy="151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Rectangle 5"/>
            <p:cNvGrpSpPr/>
            <p:nvPr/>
          </p:nvGrpSpPr>
          <p:grpSpPr>
            <a:xfrm>
              <a:off x="3899160" y="2523960"/>
              <a:ext cx="1370880" cy="1292400"/>
              <a:chOff x="3899160" y="2523960"/>
              <a:chExt cx="1370880" cy="1292400"/>
            </a:xfrm>
          </p:grpSpPr>
          <p:pic>
            <p:nvPicPr>
              <p:cNvPr id="120" name="Rectangl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899160" y="2523960"/>
                <a:ext cx="137088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4025160" y="2654280"/>
                <a:ext cx="1117800" cy="10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Rectangle 6"/>
            <p:cNvGrpSpPr/>
            <p:nvPr/>
          </p:nvGrpSpPr>
          <p:grpSpPr>
            <a:xfrm>
              <a:off x="7702560" y="1822680"/>
              <a:ext cx="1365120" cy="2694600"/>
              <a:chOff x="7702560" y="1822680"/>
              <a:chExt cx="1365120" cy="2694600"/>
            </a:xfrm>
          </p:grpSpPr>
          <p:pic>
            <p:nvPicPr>
              <p:cNvPr id="123" name="Rectangl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7702560" y="1822680"/>
                <a:ext cx="1365120" cy="269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825680" y="1952280"/>
                <a:ext cx="111780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Rectangle 7"/>
            <p:cNvGrpSpPr/>
            <p:nvPr/>
          </p:nvGrpSpPr>
          <p:grpSpPr>
            <a:xfrm>
              <a:off x="5168880" y="2286000"/>
              <a:ext cx="1365120" cy="1798200"/>
              <a:chOff x="5168880" y="2286000"/>
              <a:chExt cx="1365120" cy="1798200"/>
            </a:xfrm>
          </p:grpSpPr>
          <p:pic>
            <p:nvPicPr>
              <p:cNvPr id="126" name="Rectangl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5168880" y="2286000"/>
                <a:ext cx="1365120" cy="179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292000" y="2411640"/>
                <a:ext cx="1117800" cy="15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Rectangle 8"/>
            <p:cNvGrpSpPr/>
            <p:nvPr/>
          </p:nvGrpSpPr>
          <p:grpSpPr>
            <a:xfrm>
              <a:off x="6432840" y="2054520"/>
              <a:ext cx="1370880" cy="2237400"/>
              <a:chOff x="6432840" y="2054520"/>
              <a:chExt cx="1370880" cy="2237400"/>
            </a:xfrm>
          </p:grpSpPr>
          <p:pic>
            <p:nvPicPr>
              <p:cNvPr id="129" name="Rectangl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6432840" y="2054520"/>
                <a:ext cx="1370880" cy="22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6558840" y="2180880"/>
                <a:ext cx="1117800" cy="19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Box 9"/>
            <p:cNvSpPr/>
            <p:nvPr/>
          </p:nvSpPr>
          <p:spPr>
            <a:xfrm>
              <a:off x="1577160" y="300240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Production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2" name="TextBox 10"/>
            <p:cNvSpPr/>
            <p:nvPr/>
          </p:nvSpPr>
          <p:spPr>
            <a:xfrm>
              <a:off x="2832840" y="300240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Assembly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3" name="TextBox 11"/>
            <p:cNvSpPr/>
            <p:nvPr/>
          </p:nvSpPr>
          <p:spPr>
            <a:xfrm>
              <a:off x="4099680" y="299484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Processing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4" name="TextBox 12"/>
            <p:cNvSpPr/>
            <p:nvPr/>
          </p:nvSpPr>
          <p:spPr>
            <a:xfrm>
              <a:off x="5292000" y="2994840"/>
              <a:ext cx="11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Wholesaling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5" name="TextBox 13"/>
            <p:cNvSpPr/>
            <p:nvPr/>
          </p:nvSpPr>
          <p:spPr>
            <a:xfrm>
              <a:off x="6633360" y="298728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Retailing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6" name="TextBox 14"/>
            <p:cNvSpPr/>
            <p:nvPr/>
          </p:nvSpPr>
          <p:spPr>
            <a:xfrm>
              <a:off x="7800840" y="2982600"/>
              <a:ext cx="119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Consumption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37" name="Group 19"/>
            <p:cNvGrpSpPr/>
            <p:nvPr/>
          </p:nvGrpSpPr>
          <p:grpSpPr>
            <a:xfrm>
              <a:off x="342000" y="4447080"/>
              <a:ext cx="8578800" cy="456840"/>
              <a:chOff x="342000" y="4447080"/>
              <a:chExt cx="8578800" cy="456840"/>
            </a:xfrm>
          </p:grpSpPr>
          <p:sp>
            <p:nvSpPr>
              <p:cNvPr id="138" name="Right Arrow 15"/>
              <p:cNvSpPr/>
              <p:nvPr/>
            </p:nvSpPr>
            <p:spPr>
              <a:xfrm>
                <a:off x="342000" y="4447080"/>
                <a:ext cx="8578800" cy="456840"/>
              </a:xfrm>
              <a:prstGeom prst="rightArrow">
                <a:avLst>
                  <a:gd name="adj1" fmla="val 50000"/>
                  <a:gd name="adj2" fmla="val 48946"/>
                </a:avLst>
              </a:prstGeom>
              <a:solidFill>
                <a:srgbClr val="0099cc"/>
              </a:solidFill>
              <a:ln w="25560">
                <a:solidFill>
                  <a:srgbClr val="006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9" name="TextBox 17"/>
              <p:cNvSpPr/>
              <p:nvPr/>
            </p:nvSpPr>
            <p:spPr>
              <a:xfrm>
                <a:off x="700200" y="4530960"/>
                <a:ext cx="76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LOW OF PRODUCT AND QUALITY INFORMATION</a:t>
                </a:r>
                <a:endParaRPr b="0" lang="en-US" sz="1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0"/>
            <p:cNvGrpSpPr/>
            <p:nvPr/>
          </p:nvGrpSpPr>
          <p:grpSpPr>
            <a:xfrm>
              <a:off x="299160" y="1439640"/>
              <a:ext cx="8578800" cy="456840"/>
              <a:chOff x="299160" y="1439640"/>
              <a:chExt cx="8578800" cy="456840"/>
            </a:xfrm>
          </p:grpSpPr>
          <p:sp>
            <p:nvSpPr>
              <p:cNvPr id="141" name="Right Arrow 16"/>
              <p:cNvSpPr/>
              <p:nvPr/>
            </p:nvSpPr>
            <p:spPr>
              <a:xfrm rot="10800000">
                <a:off x="299160" y="1439280"/>
                <a:ext cx="8578800" cy="456840"/>
              </a:xfrm>
              <a:prstGeom prst="rightArrow">
                <a:avLst>
                  <a:gd name="adj1" fmla="val 50000"/>
                  <a:gd name="adj2" fmla="val 48946"/>
                </a:avLst>
              </a:prstGeom>
              <a:solidFill>
                <a:srgbClr val="0099cc"/>
              </a:solidFill>
              <a:ln w="25560">
                <a:solidFill>
                  <a:srgbClr val="006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42" name="TextBox 18"/>
              <p:cNvSpPr/>
              <p:nvPr/>
            </p:nvSpPr>
            <p:spPr>
              <a:xfrm>
                <a:off x="800280" y="1514520"/>
                <a:ext cx="767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LOW OF PAYMENTS AND CONSUMER PREFERENCE INFORMATION</a:t>
                </a:r>
                <a:endParaRPr b="0" lang="en-US" sz="1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TextBox 21"/>
          <p:cNvSpPr/>
          <p:nvPr/>
        </p:nvSpPr>
        <p:spPr>
          <a:xfrm>
            <a:off x="2362320" y="609480"/>
            <a:ext cx="419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Stages in a Marketing Channel</a:t>
            </a:r>
            <a:endParaRPr b="0" lang="en-US" sz="2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152280" y="5562720"/>
            <a:ext cx="8798040" cy="9471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Institutional players rely on information to reduce transaction costs and improve economic efficiency.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c Data and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 diversification, value added, etc. of agricultural commodities leads to a significantly increasing number of transactions to recor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nfidentialit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 global agricultural economy requires enhanced depth of information --- pork, over 20% of US production exported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Resources left within USD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MS Pork Project…..if data is not captured appropriately, then can do more harm than good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cussion Poi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information is not costless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information is generally fre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information availability is not the same as public data availability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data Issues - agricultur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rivate sector role in creating public information and use of public data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86868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Balance of Public Inform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Content Placeholder 3" descr=""/>
          <p:cNvPicPr/>
          <p:nvPr/>
        </p:nvPicPr>
        <p:blipFill>
          <a:blip r:embed="rId1"/>
          <a:stretch/>
        </p:blipFill>
        <p:spPr>
          <a:xfrm>
            <a:off x="146160" y="1878120"/>
            <a:ext cx="8547120" cy="4906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228600" y="2438280"/>
            <a:ext cx="388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nsuring that firms have the right to realign resources and decision making (productive efficiency) and respond to changes over time (dynamic efficiency), while efficiently allocating societal resources (allocative efficiency)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&amp; Pr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heor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rossman &amp; Stiglitz; Hayek; Work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ow information affects pric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ama – Efficient market hypothesi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hallenged on many occasions, behavioral fina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y do we care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ein and then Armstrong….forecast accurac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recast smoothing:  Clements; Nordhau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nsensus view – U. of Illinoi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eptember 2010 USDA NASS Crop Production Pre-Report Estimate Profile Released by Private Firms up to Two Weeks Prior to the Sept. 10, 2008 Report Dat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2209680" y="2771640"/>
            <a:ext cx="42292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1T15:36:04Z</dcterms:modified>
  <cp:revision>10</cp:revision>
  <dc:subject/>
  <dc:title>U.S. Policies Affecting Food and Agricultural Marketing</dc:title>
</cp:coreProperties>
</file>